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414AA-8411-417C-856A-11A3894E9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546BF-8D20-4995-B5D3-90F266813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6AD99-C01C-4F14-B9F7-87F840378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78EA9-2D07-4A7E-B59C-350C93839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22DB3-82D8-4B0C-B93C-5868F5C33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2CA26-D520-4C33-A652-9BDCC32E0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ADFE8-95F5-4BAB-A3AB-D6928365B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6A3CE-44E5-4BBA-AAD6-97A2C88C7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9181B-473B-4CE2-AA51-274FB071E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1AB76-C8F4-4AE1-BE62-8526145ED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78459-D2FA-4933-9B7C-35F7D71AB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E463C-A31E-4F1B-80E9-569E452D8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C1916-1CD8-489F-883E-E9CA069BA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62A42-54C1-4713-9FC9-A8549B581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70AF4-1CD1-4B89-9E34-22BDAECCD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D7BC9-7D73-4C0B-8A46-4B25B9BE1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2A53D-533F-4F5E-ADF1-51B9BDD9A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A2794-2783-4A55-97BC-ACAADF0B5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4ABAD-AF0E-458D-9D88-010703D95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FF705-4CFB-40C0-B4B0-97AA58A51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F6373-ABEC-46FD-90AF-892395606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8F4CF-BAF9-49F6-AFF0-600737C99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CAB2B-BE25-4CE9-8F4D-842C4AE6A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60154-9194-4530-A700-5C1A4016B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2732F-041A-465F-A45D-D27D5924DF7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7973C-19B0-45B1-A781-18D284D19C0E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../FILE%20HO%20TRO%20BAI%20GIANG/MAU%20BIEN%20BAN.doc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KỸ THUẬT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GHI &amp; TRÌNH BÀY BIÊN BẢN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SỐ TIẾT GIẢNG: 1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Title 1"/>
          <p:cNvSpPr/>
          <p:nvPr/>
        </p:nvSpPr>
        <p:spPr>
          <a:xfrm>
            <a:off x="571680" y="284040"/>
            <a:ext cx="800100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BÀI 5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66"/>
                </a:solidFill>
                <a:latin typeface="Times New Roman"/>
              </a:rPr>
              <a:t>NỘI DUNG BÀI GIẢNG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VNI-Times"/>
              </a:rPr>
              <a:t>1.</a:t>
            </a:r>
            <a:r>
              <a:rPr b="0" lang="en-US" sz="3600" spc="-1" strike="noStrike">
                <a:solidFill>
                  <a:srgbClr val="000066"/>
                </a:solidFill>
                <a:latin typeface="VNI-Times"/>
              </a:rPr>
              <a:t> Khaùi nieäm bieân baû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VNI-Times"/>
              </a:rPr>
              <a:t>2.</a:t>
            </a:r>
            <a:r>
              <a:rPr b="0" lang="en-US" sz="3600" spc="-1" strike="noStrike">
                <a:solidFill>
                  <a:srgbClr val="000066"/>
                </a:solidFill>
                <a:latin typeface="VNI-Times"/>
              </a:rPr>
              <a:t> Phaân loaïi bieân baû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VNI-Times"/>
              </a:rPr>
              <a:t>3.</a:t>
            </a:r>
            <a:r>
              <a:rPr b="0" lang="en-US" sz="3600" spc="-1" strike="noStrike">
                <a:solidFill>
                  <a:srgbClr val="000066"/>
                </a:solidFill>
                <a:latin typeface="VNI-Times"/>
              </a:rPr>
              <a:t> Phöông phaùp ghi bieân baû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VNI-Times"/>
              </a:rPr>
              <a:t>4.</a:t>
            </a:r>
            <a:r>
              <a:rPr b="0" lang="en-US" sz="3600" spc="-1" strike="noStrike">
                <a:solidFill>
                  <a:srgbClr val="000066"/>
                </a:solidFill>
                <a:latin typeface="VNI-Times"/>
              </a:rPr>
              <a:t> Caáu truùc cuûa bieân baû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1. KHÁI NIỆM BIÊN BẢ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00000"/>
              </a:lnSpc>
              <a:spcBef>
                <a:spcPts val="9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Văn bản</a:t>
            </a: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 ghi lại những sự việc, vụ việc đã xảy ra / đang diễn ra để làm chứng cứ pháp lý về sau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9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Yêu cầu:</a:t>
            </a: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 Ghi trung thực, khách quan, chính xác &amp; đầy đủ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66"/>
                </a:solidFill>
                <a:latin typeface="Times New Roman"/>
              </a:rPr>
              <a:t>2. PHÂN LOẠI BIÊN BẢ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Biên bản hội họp: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Ghi lại tiến trình, diễn biế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Biên bản hành chính: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Ghi lại sự việc theo quy định hành chính: Biên bản vi phạm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Biên bản trong lĩnh vực tư pháp: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Ghi lại những sự việc theo quy định của pháp luật tố tụng trong hoạt động của các CQ tư pháp: Biên bản phiên tòa, biên bản lấy lời khai …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66"/>
                </a:solidFill>
                <a:latin typeface="Times New Roman"/>
              </a:rPr>
              <a:t>3. PHƯƠNG PHÁP GHI BIÊN BẢ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Phân loại thông tin khi ghi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Thông tin để biết - ghi ý chính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Thông tin để thực hiện - ghi đầy đủ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Nếu người phát biểu yêu cầu ghi nguyên văn thì sử dụng hình thức dẫn lời nói trực tiếp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Tập trung lắng nghe, ghi chép nhanh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ử dụng kỹ thuật biến đổi câu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66"/>
                </a:solidFill>
                <a:latin typeface="Times New Roman"/>
              </a:rPr>
              <a:t>4. CẤU TRÚC CỦA BIÊN BẢ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32644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50720" indent="-450720">
              <a:lnSpc>
                <a:spcPct val="8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Mở đầu: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Thời gian, địa điểm lập biên bản, thành phần tham dự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8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Nội dung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871560" indent="-418680">
              <a:lnSpc>
                <a:spcPct val="8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Biên bản hội họp / vụ việc đang diễn ra: ghi theo tiến trình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871560" indent="-418680">
              <a:lnSpc>
                <a:spcPct val="8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Biên bản sự việc đã xảy ra: mô tả hiện trường, ghi lời khai nhân chứ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8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Kết luận: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Ghi thời gian, địa điểm kết thúc việc lập biên bản, biên bản được đọc thông qua những người tham dự, số bản được lập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 u="sng">
                <a:solidFill>
                  <a:srgbClr val="336699"/>
                </a:solidFill>
                <a:uFillTx/>
                <a:latin typeface="Times New Roman"/>
                <a:ea typeface="Times New Roman"/>
                <a:hlinkClick r:id="rId1"/>
              </a:rPr>
              <a:t>CÂU HỎI ÔN TẬP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00000"/>
              </a:lnSpc>
              <a:spcBef>
                <a:spcPts val="9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Phân loại biên bản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9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Nêu phương pháp ghi biên bản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9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Cấu trúc của biên bản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3T12:33:18Z</dcterms:created>
  <dc:creator>Bài giảng QTVP_Thầy Nam Hà</dc:creator>
  <dc:description/>
  <dc:language>en-US</dc:language>
  <cp:lastModifiedBy>ntc</cp:lastModifiedBy>
  <dcterms:modified xsi:type="dcterms:W3CDTF">2014-03-23T15:05:46Z</dcterms:modified>
  <cp:revision>53</cp:revision>
  <dc:subject/>
  <dc:title>Chương 9.5</dc:title>
</cp:coreProperties>
</file>